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851D-141F-4885-A340-D1C0D344E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43FD-2661-4FB7-ABC7-40E5BE0F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729B-6FA2-4281-B29E-C1B9F9014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B076-85A8-447F-9145-26C0F9397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E02E-024F-4F57-A0A6-7F906F38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9D4A-2236-4661-8BA0-B412BF60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3E87-28C0-4607-BAFA-9C4D10E9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7E54-FE94-45B2-A77F-68CAF3FD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4735-9A07-4A2C-B9F7-49545759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56E3-C5FC-4FAF-9232-0DCBBDDC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B0C1-43B2-417E-9811-4ED7C506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19B1-84E5-4B10-9FEE-36997D98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420C-DFCA-452C-9014-AABACB595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C:/WINDOWS/Desktop/SUBTOPICS.doc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Subtopics</a:t>
            </a: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562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By Mrs. Keegan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685800" y="2438280"/>
          <a:ext cx="7772400" cy="22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38280"/>
                    <a:ext cx="7772400" cy="22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Art, Music, Drama</a:t>
            </a: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Artists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Media (paint, sculpture, etc.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Style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Training/Education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Exhibitions/Art Shows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Performances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Subjects (what did they paint or sculpt)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  <p:pic>
        <p:nvPicPr>
          <p:cNvPr id="142" name="EN00354_" descr=""/>
          <p:cNvPicPr/>
          <p:nvPr/>
        </p:nvPicPr>
        <p:blipFill>
          <a:blip r:embed="rId1"/>
          <a:stretch/>
        </p:blipFill>
        <p:spPr>
          <a:xfrm>
            <a:off x="5943600" y="2590920"/>
            <a:ext cx="281952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Animals</a:t>
            </a: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Diet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Habitat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Causes for being endangered (if endangered)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Adaptations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Enemies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Life cycle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Behavior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</p:txBody>
      </p:sp>
      <p:pic>
        <p:nvPicPr>
          <p:cNvPr id="145" name="AN01124_" descr=""/>
          <p:cNvPicPr/>
          <p:nvPr/>
        </p:nvPicPr>
        <p:blipFill>
          <a:blip r:embed="rId1"/>
          <a:stretch/>
        </p:blipFill>
        <p:spPr>
          <a:xfrm>
            <a:off x="4572000" y="3581280"/>
            <a:ext cx="2441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Compare and Contrast</a:t>
            </a: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Description of Item 1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Description of Item 2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Similarities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Differences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Historical Events</a:t>
            </a: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Background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Description of Place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Description of People Involved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Conditions (Living, working, family life )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Battle Strategies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Home Front (War only)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Peace Negotiations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Thinking of the time (ex.  What did white people think about African-Americans in the time of Jackie Robinson?)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</p:txBody>
      </p:sp>
      <p:pic>
        <p:nvPicPr>
          <p:cNvPr id="150" name="j0115272" descr=""/>
          <p:cNvPicPr/>
          <p:nvPr/>
        </p:nvPicPr>
        <p:blipFill>
          <a:blip r:embed="rId1"/>
          <a:stretch/>
        </p:blipFill>
        <p:spPr>
          <a:xfrm>
            <a:off x="6019920" y="1523880"/>
            <a:ext cx="242712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Religion</a:t>
            </a: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Symbols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Leaders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Origins (Beginnings)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Places of Worship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Sacred Objects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Religious Practices/Traditions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  <p:pic>
        <p:nvPicPr>
          <p:cNvPr id="153" name="BD08208_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6750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Step 1</a:t>
            </a:r>
            <a:endParaRPr b="0" lang="en-US" sz="40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List possible questions that relate to your main question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 flipV="1">
            <a:off x="4599000" y="1382760"/>
            <a:ext cx="1085760" cy="1309680"/>
          </a:xfrm>
          <a:prstGeom prst="line">
            <a:avLst/>
          </a:prstGeom>
          <a:ln w="19080">
            <a:solidFill>
              <a:srgbClr val="7000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629320" y="1149480"/>
            <a:ext cx="258840" cy="287280"/>
          </a:xfrm>
          <a:custGeom>
            <a:avLst/>
            <a:gdLst/>
            <a:ahLst/>
            <a:rect l="l" t="t" r="r" b="b"/>
            <a:pathLst>
              <a:path w="163" h="181">
                <a:moveTo>
                  <a:pt x="163" y="0"/>
                </a:moveTo>
                <a:lnTo>
                  <a:pt x="0" y="135"/>
                </a:lnTo>
                <a:lnTo>
                  <a:pt x="35" y="158"/>
                </a:lnTo>
                <a:lnTo>
                  <a:pt x="70" y="181"/>
                </a:lnTo>
                <a:lnTo>
                  <a:pt x="163" y="0"/>
                </a:lnTo>
              </a:path>
            </a:pathLst>
          </a:custGeom>
          <a:noFill/>
          <a:ln w="19080">
            <a:solidFill>
              <a:srgbClr val="7000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629320" y="1149480"/>
            <a:ext cx="258840" cy="287280"/>
          </a:xfrm>
          <a:custGeom>
            <a:avLst/>
            <a:gdLst/>
            <a:ahLst/>
            <a:rect l="l" t="t" r="r" b="b"/>
            <a:pathLst>
              <a:path w="163" h="181">
                <a:moveTo>
                  <a:pt x="163" y="0"/>
                </a:moveTo>
                <a:lnTo>
                  <a:pt x="0" y="135"/>
                </a:lnTo>
                <a:lnTo>
                  <a:pt x="35" y="158"/>
                </a:lnTo>
                <a:lnTo>
                  <a:pt x="70" y="181"/>
                </a:lnTo>
                <a:lnTo>
                  <a:pt x="163" y="0"/>
                </a:lnTo>
                <a:close/>
              </a:path>
            </a:pathLst>
          </a:custGeom>
          <a:solidFill>
            <a:srgbClr val="700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99000" y="3519360"/>
            <a:ext cx="1638360" cy="1130400"/>
          </a:xfrm>
          <a:prstGeom prst="line">
            <a:avLst/>
          </a:prstGeom>
          <a:ln w="19080">
            <a:solidFill>
              <a:srgbClr val="7000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81560" y="4578480"/>
            <a:ext cx="295560" cy="233280"/>
          </a:xfrm>
          <a:custGeom>
            <a:avLst/>
            <a:gdLst/>
            <a:ahLst/>
            <a:rect l="l" t="t" r="r" b="b"/>
            <a:pathLst>
              <a:path w="186" h="147">
                <a:moveTo>
                  <a:pt x="186" y="147"/>
                </a:moveTo>
                <a:lnTo>
                  <a:pt x="0" y="68"/>
                </a:lnTo>
                <a:lnTo>
                  <a:pt x="23" y="34"/>
                </a:lnTo>
                <a:lnTo>
                  <a:pt x="46" y="0"/>
                </a:lnTo>
                <a:lnTo>
                  <a:pt x="186" y="147"/>
                </a:lnTo>
              </a:path>
            </a:pathLst>
          </a:custGeom>
          <a:noFill/>
          <a:ln w="19080">
            <a:solidFill>
              <a:srgbClr val="7000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81560" y="4578480"/>
            <a:ext cx="295560" cy="233280"/>
          </a:xfrm>
          <a:custGeom>
            <a:avLst/>
            <a:gdLst/>
            <a:ahLst/>
            <a:rect l="l" t="t" r="r" b="b"/>
            <a:pathLst>
              <a:path w="186" h="147">
                <a:moveTo>
                  <a:pt x="186" y="147"/>
                </a:moveTo>
                <a:lnTo>
                  <a:pt x="0" y="68"/>
                </a:lnTo>
                <a:lnTo>
                  <a:pt x="23" y="34"/>
                </a:lnTo>
                <a:lnTo>
                  <a:pt x="46" y="0"/>
                </a:lnTo>
                <a:lnTo>
                  <a:pt x="186" y="147"/>
                </a:lnTo>
                <a:close/>
              </a:path>
            </a:pathLst>
          </a:custGeom>
          <a:solidFill>
            <a:srgbClr val="700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99000" y="3519360"/>
            <a:ext cx="442800" cy="2046240"/>
          </a:xfrm>
          <a:prstGeom prst="line">
            <a:avLst/>
          </a:prstGeom>
          <a:ln w="19080">
            <a:solidFill>
              <a:srgbClr val="7000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86360" y="5529240"/>
            <a:ext cx="109440" cy="270000"/>
          </a:xfrm>
          <a:custGeom>
            <a:avLst/>
            <a:gdLst/>
            <a:ahLst/>
            <a:rect l="l" t="t" r="r" b="b"/>
            <a:pathLst>
              <a:path w="69" h="170">
                <a:moveTo>
                  <a:pt x="69" y="170"/>
                </a:moveTo>
                <a:lnTo>
                  <a:pt x="0" y="23"/>
                </a:lnTo>
                <a:lnTo>
                  <a:pt x="35" y="11"/>
                </a:lnTo>
                <a:lnTo>
                  <a:pt x="69" y="0"/>
                </a:lnTo>
                <a:lnTo>
                  <a:pt x="69" y="170"/>
                </a:lnTo>
              </a:path>
            </a:pathLst>
          </a:custGeom>
          <a:noFill/>
          <a:ln w="19080">
            <a:solidFill>
              <a:srgbClr val="7000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86360" y="5529240"/>
            <a:ext cx="109440" cy="270000"/>
          </a:xfrm>
          <a:custGeom>
            <a:avLst/>
            <a:gdLst/>
            <a:ahLst/>
            <a:rect l="l" t="t" r="r" b="b"/>
            <a:pathLst>
              <a:path w="69" h="170">
                <a:moveTo>
                  <a:pt x="69" y="170"/>
                </a:moveTo>
                <a:lnTo>
                  <a:pt x="0" y="23"/>
                </a:lnTo>
                <a:lnTo>
                  <a:pt x="35" y="11"/>
                </a:lnTo>
                <a:lnTo>
                  <a:pt x="69" y="0"/>
                </a:lnTo>
                <a:lnTo>
                  <a:pt x="69" y="170"/>
                </a:lnTo>
                <a:close/>
              </a:path>
            </a:pathLst>
          </a:custGeom>
          <a:solidFill>
            <a:srgbClr val="700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2188800" y="2351160"/>
            <a:ext cx="1655640" cy="736560"/>
          </a:xfrm>
          <a:prstGeom prst="line">
            <a:avLst/>
          </a:prstGeom>
          <a:ln w="19080">
            <a:solidFill>
              <a:srgbClr val="7000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49400" y="2244600"/>
            <a:ext cx="276120" cy="160560"/>
          </a:xfrm>
          <a:custGeom>
            <a:avLst/>
            <a:gdLst/>
            <a:ahLst/>
            <a:rect l="l" t="t" r="r" b="b"/>
            <a:pathLst>
              <a:path w="174" h="101">
                <a:moveTo>
                  <a:pt x="0" y="0"/>
                </a:moveTo>
                <a:lnTo>
                  <a:pt x="151" y="101"/>
                </a:lnTo>
                <a:lnTo>
                  <a:pt x="163" y="67"/>
                </a:lnTo>
                <a:lnTo>
                  <a:pt x="174" y="3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7000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49400" y="2244600"/>
            <a:ext cx="276120" cy="160560"/>
          </a:xfrm>
          <a:custGeom>
            <a:avLst/>
            <a:gdLst/>
            <a:ahLst/>
            <a:rect l="l" t="t" r="r" b="b"/>
            <a:pathLst>
              <a:path w="174" h="101">
                <a:moveTo>
                  <a:pt x="0" y="0"/>
                </a:moveTo>
                <a:lnTo>
                  <a:pt x="151" y="101"/>
                </a:lnTo>
                <a:lnTo>
                  <a:pt x="163" y="67"/>
                </a:lnTo>
                <a:lnTo>
                  <a:pt x="174" y="34"/>
                </a:lnTo>
                <a:lnTo>
                  <a:pt x="0" y="0"/>
                </a:lnTo>
                <a:close/>
              </a:path>
            </a:pathLst>
          </a:custGeom>
          <a:solidFill>
            <a:srgbClr val="700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3311640" y="1490760"/>
            <a:ext cx="1287360" cy="1201680"/>
          </a:xfrm>
          <a:prstGeom prst="line">
            <a:avLst/>
          </a:prstGeom>
          <a:ln w="19080">
            <a:solidFill>
              <a:srgbClr val="7000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7320" y="1328760"/>
            <a:ext cx="220680" cy="216000"/>
          </a:xfrm>
          <a:custGeom>
            <a:avLst/>
            <a:gdLst/>
            <a:ahLst/>
            <a:rect l="l" t="t" r="r" b="b"/>
            <a:pathLst>
              <a:path w="139" h="136">
                <a:moveTo>
                  <a:pt x="0" y="0"/>
                </a:moveTo>
                <a:lnTo>
                  <a:pt x="93" y="136"/>
                </a:lnTo>
                <a:lnTo>
                  <a:pt x="116" y="113"/>
                </a:lnTo>
                <a:lnTo>
                  <a:pt x="139" y="9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7000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7320" y="1328760"/>
            <a:ext cx="220680" cy="216000"/>
          </a:xfrm>
          <a:custGeom>
            <a:avLst/>
            <a:gdLst/>
            <a:ahLst/>
            <a:rect l="l" t="t" r="r" b="b"/>
            <a:pathLst>
              <a:path w="139" h="136">
                <a:moveTo>
                  <a:pt x="0" y="0"/>
                </a:moveTo>
                <a:lnTo>
                  <a:pt x="93" y="136"/>
                </a:lnTo>
                <a:lnTo>
                  <a:pt x="116" y="113"/>
                </a:lnTo>
                <a:lnTo>
                  <a:pt x="139" y="90"/>
                </a:lnTo>
                <a:lnTo>
                  <a:pt x="0" y="0"/>
                </a:lnTo>
                <a:close/>
              </a:path>
            </a:pathLst>
          </a:custGeom>
          <a:solidFill>
            <a:srgbClr val="700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408640" y="2117880"/>
            <a:ext cx="1306440" cy="969840"/>
          </a:xfrm>
          <a:prstGeom prst="line">
            <a:avLst/>
          </a:prstGeom>
          <a:ln w="19080">
            <a:solidFill>
              <a:srgbClr val="7000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59640" y="1957320"/>
            <a:ext cx="276120" cy="233280"/>
          </a:xfrm>
          <a:custGeom>
            <a:avLst/>
            <a:gdLst/>
            <a:ahLst/>
            <a:rect l="l" t="t" r="r" b="b"/>
            <a:pathLst>
              <a:path w="174" h="147">
                <a:moveTo>
                  <a:pt x="174" y="0"/>
                </a:moveTo>
                <a:lnTo>
                  <a:pt x="0" y="79"/>
                </a:lnTo>
                <a:lnTo>
                  <a:pt x="24" y="113"/>
                </a:lnTo>
                <a:lnTo>
                  <a:pt x="47" y="147"/>
                </a:lnTo>
                <a:lnTo>
                  <a:pt x="174" y="0"/>
                </a:lnTo>
              </a:path>
            </a:pathLst>
          </a:custGeom>
          <a:noFill/>
          <a:ln w="19080">
            <a:solidFill>
              <a:srgbClr val="7000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59640" y="1957320"/>
            <a:ext cx="276120" cy="233280"/>
          </a:xfrm>
          <a:custGeom>
            <a:avLst/>
            <a:gdLst/>
            <a:ahLst/>
            <a:rect l="l" t="t" r="r" b="b"/>
            <a:pathLst>
              <a:path w="174" h="147">
                <a:moveTo>
                  <a:pt x="174" y="0"/>
                </a:moveTo>
                <a:lnTo>
                  <a:pt x="0" y="79"/>
                </a:lnTo>
                <a:lnTo>
                  <a:pt x="24" y="113"/>
                </a:lnTo>
                <a:lnTo>
                  <a:pt x="47" y="147"/>
                </a:lnTo>
                <a:lnTo>
                  <a:pt x="174" y="0"/>
                </a:lnTo>
                <a:close/>
              </a:path>
            </a:pathLst>
          </a:custGeom>
          <a:solidFill>
            <a:srgbClr val="700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08640" y="3087720"/>
            <a:ext cx="1859040" cy="538200"/>
          </a:xfrm>
          <a:prstGeom prst="line">
            <a:avLst/>
          </a:prstGeom>
          <a:ln w="19080">
            <a:solidFill>
              <a:srgbClr val="7000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230960" y="3571920"/>
            <a:ext cx="293760" cy="127080"/>
          </a:xfrm>
          <a:custGeom>
            <a:avLst/>
            <a:gdLst/>
            <a:ahLst/>
            <a:rect l="l" t="t" r="r" b="b"/>
            <a:pathLst>
              <a:path w="185" h="80">
                <a:moveTo>
                  <a:pt x="185" y="80"/>
                </a:moveTo>
                <a:lnTo>
                  <a:pt x="0" y="68"/>
                </a:lnTo>
                <a:lnTo>
                  <a:pt x="11" y="34"/>
                </a:lnTo>
                <a:lnTo>
                  <a:pt x="23" y="0"/>
                </a:lnTo>
                <a:lnTo>
                  <a:pt x="185" y="80"/>
                </a:lnTo>
              </a:path>
            </a:pathLst>
          </a:custGeom>
          <a:noFill/>
          <a:ln w="19080">
            <a:solidFill>
              <a:srgbClr val="7000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230960" y="3571920"/>
            <a:ext cx="293760" cy="127080"/>
          </a:xfrm>
          <a:custGeom>
            <a:avLst/>
            <a:gdLst/>
            <a:ahLst/>
            <a:rect l="l" t="t" r="r" b="b"/>
            <a:pathLst>
              <a:path w="185" h="80">
                <a:moveTo>
                  <a:pt x="185" y="80"/>
                </a:moveTo>
                <a:lnTo>
                  <a:pt x="0" y="68"/>
                </a:lnTo>
                <a:lnTo>
                  <a:pt x="11" y="34"/>
                </a:lnTo>
                <a:lnTo>
                  <a:pt x="23" y="0"/>
                </a:lnTo>
                <a:lnTo>
                  <a:pt x="185" y="80"/>
                </a:lnTo>
                <a:close/>
              </a:path>
            </a:pathLst>
          </a:custGeom>
          <a:solidFill>
            <a:srgbClr val="700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839600" y="3087720"/>
            <a:ext cx="2004840" cy="1203120"/>
          </a:xfrm>
          <a:prstGeom prst="line">
            <a:avLst/>
          </a:prstGeom>
          <a:ln w="19080">
            <a:solidFill>
              <a:srgbClr val="7000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63840" y="4219560"/>
            <a:ext cx="331560" cy="233280"/>
          </a:xfrm>
          <a:custGeom>
            <a:avLst/>
            <a:gdLst/>
            <a:ahLst/>
            <a:rect l="l" t="t" r="r" b="b"/>
            <a:pathLst>
              <a:path w="209" h="147">
                <a:moveTo>
                  <a:pt x="0" y="147"/>
                </a:moveTo>
                <a:lnTo>
                  <a:pt x="162" y="0"/>
                </a:lnTo>
                <a:lnTo>
                  <a:pt x="186" y="34"/>
                </a:lnTo>
                <a:lnTo>
                  <a:pt x="209" y="67"/>
                </a:lnTo>
                <a:lnTo>
                  <a:pt x="0" y="147"/>
                </a:lnTo>
              </a:path>
            </a:pathLst>
          </a:custGeom>
          <a:noFill/>
          <a:ln w="19080">
            <a:solidFill>
              <a:srgbClr val="7000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63840" y="4219560"/>
            <a:ext cx="331560" cy="233280"/>
          </a:xfrm>
          <a:custGeom>
            <a:avLst/>
            <a:gdLst/>
            <a:ahLst/>
            <a:rect l="l" t="t" r="r" b="b"/>
            <a:pathLst>
              <a:path w="209" h="147">
                <a:moveTo>
                  <a:pt x="0" y="147"/>
                </a:moveTo>
                <a:lnTo>
                  <a:pt x="162" y="0"/>
                </a:lnTo>
                <a:lnTo>
                  <a:pt x="186" y="34"/>
                </a:lnTo>
                <a:lnTo>
                  <a:pt x="209" y="67"/>
                </a:lnTo>
                <a:lnTo>
                  <a:pt x="0" y="147"/>
                </a:lnTo>
                <a:close/>
              </a:path>
            </a:pathLst>
          </a:custGeom>
          <a:solidFill>
            <a:srgbClr val="700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998440" y="3519360"/>
            <a:ext cx="1600200" cy="1722600"/>
          </a:xfrm>
          <a:prstGeom prst="line">
            <a:avLst/>
          </a:prstGeom>
          <a:ln w="19080">
            <a:solidFill>
              <a:srgbClr val="7000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78120" y="5187960"/>
            <a:ext cx="276120" cy="287280"/>
          </a:xfrm>
          <a:custGeom>
            <a:avLst/>
            <a:gdLst/>
            <a:ahLst/>
            <a:rect l="l" t="t" r="r" b="b"/>
            <a:pathLst>
              <a:path w="174" h="181">
                <a:moveTo>
                  <a:pt x="0" y="181"/>
                </a:moveTo>
                <a:lnTo>
                  <a:pt x="128" y="0"/>
                </a:lnTo>
                <a:lnTo>
                  <a:pt x="151" y="23"/>
                </a:lnTo>
                <a:lnTo>
                  <a:pt x="174" y="46"/>
                </a:lnTo>
                <a:lnTo>
                  <a:pt x="0" y="181"/>
                </a:lnTo>
              </a:path>
            </a:pathLst>
          </a:custGeom>
          <a:noFill/>
          <a:ln w="19080">
            <a:solidFill>
              <a:srgbClr val="7000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78120" y="5187960"/>
            <a:ext cx="276120" cy="287280"/>
          </a:xfrm>
          <a:custGeom>
            <a:avLst/>
            <a:gdLst/>
            <a:ahLst/>
            <a:rect l="l" t="t" r="r" b="b"/>
            <a:pathLst>
              <a:path w="174" h="181">
                <a:moveTo>
                  <a:pt x="0" y="181"/>
                </a:moveTo>
                <a:lnTo>
                  <a:pt x="128" y="0"/>
                </a:lnTo>
                <a:lnTo>
                  <a:pt x="151" y="23"/>
                </a:lnTo>
                <a:lnTo>
                  <a:pt x="174" y="46"/>
                </a:lnTo>
                <a:lnTo>
                  <a:pt x="0" y="181"/>
                </a:lnTo>
                <a:close/>
              </a:path>
            </a:pathLst>
          </a:custGeom>
          <a:solidFill>
            <a:srgbClr val="700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00600" y="2746440"/>
            <a:ext cx="1527120" cy="790560"/>
          </a:xfrm>
          <a:prstGeom prst="ellipse">
            <a:avLst/>
          </a:prstGeom>
          <a:solidFill>
            <a:srgbClr val="0000d4"/>
          </a:solidFill>
          <a:ln w="1908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44800" y="2692440"/>
            <a:ext cx="1527480" cy="790560"/>
          </a:xfrm>
          <a:prstGeom prst="ellipse">
            <a:avLst/>
          </a:prstGeom>
          <a:solidFill>
            <a:srgbClr val="cafdfd"/>
          </a:solidFill>
          <a:ln w="1908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96880" y="2871720"/>
            <a:ext cx="951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ost Boys of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0960" y="308772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ud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87960" y="196920"/>
            <a:ext cx="1527120" cy="969840"/>
          </a:xfrm>
          <a:prstGeom prst="ellipse">
            <a:avLst/>
          </a:prstGeom>
          <a:solidFill>
            <a:srgbClr val="0000d4"/>
          </a:solidFill>
          <a:ln w="1908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32520" y="142920"/>
            <a:ext cx="1527120" cy="969840"/>
          </a:xfrm>
          <a:prstGeom prst="ellipse">
            <a:avLst/>
          </a:prstGeom>
          <a:solidFill>
            <a:srgbClr val="cafdfd"/>
          </a:solidFill>
          <a:ln w="1908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21760" y="304920"/>
            <a:ext cx="659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y ar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81600" y="520560"/>
            <a:ext cx="357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y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35720" y="735120"/>
            <a:ext cx="79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meless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76920" y="4865760"/>
            <a:ext cx="1527120" cy="771480"/>
          </a:xfrm>
          <a:prstGeom prst="ellipse">
            <a:avLst/>
          </a:prstGeom>
          <a:solidFill>
            <a:srgbClr val="0000d4"/>
          </a:solidFill>
          <a:ln w="1908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21480" y="4811760"/>
            <a:ext cx="1527120" cy="771480"/>
          </a:xfrm>
          <a:prstGeom prst="ellipse">
            <a:avLst/>
          </a:prstGeom>
          <a:solidFill>
            <a:srgbClr val="cafdfd"/>
          </a:solidFill>
          <a:ln w="1908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61400" y="4971960"/>
            <a:ext cx="759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ere d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65000" y="5187960"/>
            <a:ext cx="695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y live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97400" y="5853240"/>
            <a:ext cx="1527120" cy="968400"/>
          </a:xfrm>
          <a:prstGeom prst="ellipse">
            <a:avLst/>
          </a:prstGeom>
          <a:solidFill>
            <a:srgbClr val="0000d4"/>
          </a:solidFill>
          <a:ln w="1908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1960" y="5799240"/>
            <a:ext cx="1527120" cy="968400"/>
          </a:xfrm>
          <a:prstGeom prst="ellipse">
            <a:avLst/>
          </a:prstGeom>
          <a:solidFill>
            <a:srgbClr val="cafdfd"/>
          </a:solidFill>
          <a:ln w="1908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62360" y="5959440"/>
            <a:ext cx="1015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at is it lik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30920" y="617544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t th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54240" y="6391440"/>
            <a:ext cx="576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mps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360" y="1650960"/>
            <a:ext cx="1527120" cy="1293840"/>
          </a:xfrm>
          <a:prstGeom prst="ellipse">
            <a:avLst/>
          </a:prstGeom>
          <a:solidFill>
            <a:srgbClr val="0000d4"/>
          </a:solidFill>
          <a:ln w="1908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5920" y="1596960"/>
            <a:ext cx="1527120" cy="1293840"/>
          </a:xfrm>
          <a:prstGeom prst="ellipse">
            <a:avLst/>
          </a:prstGeom>
          <a:solidFill>
            <a:srgbClr val="cafdfd"/>
          </a:solidFill>
          <a:ln w="1908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03160" y="202896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many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02880" y="2243160"/>
            <a:ext cx="622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ids ar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4280" y="2459160"/>
            <a:ext cx="466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re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28920" y="54000"/>
            <a:ext cx="1527120" cy="1292040"/>
          </a:xfrm>
          <a:prstGeom prst="ellipse">
            <a:avLst/>
          </a:prstGeom>
          <a:solidFill>
            <a:srgbClr val="0000d4"/>
          </a:solidFill>
          <a:ln w="1908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73480" y="0"/>
            <a:ext cx="1527120" cy="1292400"/>
          </a:xfrm>
          <a:prstGeom prst="ellipse">
            <a:avLst/>
          </a:prstGeom>
          <a:solidFill>
            <a:srgbClr val="cafdfd"/>
          </a:solidFill>
          <a:ln w="1908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94760" y="21420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at i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98200" y="430200"/>
            <a:ext cx="988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appening in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49400" y="646200"/>
            <a:ext cx="704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an t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8240" y="861840"/>
            <a:ext cx="832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use this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91200" y="1363680"/>
            <a:ext cx="1527480" cy="1293840"/>
          </a:xfrm>
          <a:prstGeom prst="ellipse">
            <a:avLst/>
          </a:prstGeom>
          <a:solidFill>
            <a:srgbClr val="0000d4"/>
          </a:solidFill>
          <a:ln w="1908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35760" y="1311120"/>
            <a:ext cx="1527120" cy="1292400"/>
          </a:xfrm>
          <a:prstGeom prst="ellipse">
            <a:avLst/>
          </a:prstGeom>
          <a:solidFill>
            <a:srgbClr val="cafdfd"/>
          </a:solidFill>
          <a:ln w="1908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39480" y="1525680"/>
            <a:ext cx="43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at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283880" y="1741320"/>
            <a:ext cx="960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appened t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457760" y="1955880"/>
            <a:ext cx="613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kid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402320" y="2171880"/>
            <a:ext cx="649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amilies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80160" y="3267000"/>
            <a:ext cx="1527480" cy="970200"/>
          </a:xfrm>
          <a:prstGeom prst="ellipse">
            <a:avLst/>
          </a:prstGeom>
          <a:solidFill>
            <a:srgbClr val="0000d4"/>
          </a:solidFill>
          <a:ln w="1908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24720" y="3213000"/>
            <a:ext cx="1527120" cy="970200"/>
          </a:xfrm>
          <a:prstGeom prst="ellipse">
            <a:avLst/>
          </a:prstGeom>
          <a:solidFill>
            <a:srgbClr val="cafdfd"/>
          </a:solidFill>
          <a:ln w="1908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128440" y="3375000"/>
            <a:ext cx="43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at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849080" y="3591000"/>
            <a:ext cx="1006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appened on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853400" y="3805200"/>
            <a:ext cx="942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ir travels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440" y="3859200"/>
            <a:ext cx="1527120" cy="1293840"/>
          </a:xfrm>
          <a:prstGeom prst="ellipse">
            <a:avLst/>
          </a:prstGeom>
          <a:solidFill>
            <a:srgbClr val="0000d4"/>
          </a:solidFill>
          <a:ln w="1908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805200"/>
            <a:ext cx="1527120" cy="1293840"/>
          </a:xfrm>
          <a:prstGeom prst="ellipse">
            <a:avLst/>
          </a:prstGeom>
          <a:solidFill>
            <a:srgbClr val="cafdfd"/>
          </a:solidFill>
          <a:ln w="1908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5920" y="4021200"/>
            <a:ext cx="704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at will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2400" y="4237200"/>
            <a:ext cx="1052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appen to th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520" y="4451400"/>
            <a:ext cx="84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oys in th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4240" y="4667400"/>
            <a:ext cx="512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uture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79720" y="5529240"/>
            <a:ext cx="1527120" cy="969840"/>
          </a:xfrm>
          <a:prstGeom prst="ellipse">
            <a:avLst/>
          </a:prstGeom>
          <a:solidFill>
            <a:srgbClr val="0000d4"/>
          </a:solidFill>
          <a:ln w="1908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23920" y="5475240"/>
            <a:ext cx="1527480" cy="969840"/>
          </a:xfrm>
          <a:prstGeom prst="ellipse">
            <a:avLst/>
          </a:prstGeom>
          <a:solidFill>
            <a:srgbClr val="cafdfd"/>
          </a:solidFill>
          <a:ln w="1908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62760" y="5637240"/>
            <a:ext cx="777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o pay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86960" y="5851440"/>
            <a:ext cx="512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r th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36560" y="6067440"/>
            <a:ext cx="576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mps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Categories</a:t>
            </a: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Look for words they have in common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Make 3 columns and list the questions that seem to go together in the same column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Come up for a name for their common traits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UBTOPICS.doc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Problematic topic: AIDS, Famine, Disease, War, etc.</a:t>
            </a: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Background of problem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Statistics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Causes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Effects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Solutions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Future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General</a:t>
            </a: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History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Description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Causes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Effects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Reasons for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People</a:t>
            </a: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Early life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Education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Early career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Later career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Accomplishments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Reason for fame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Contributions to society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Obstacles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</p:txBody>
      </p:sp>
      <p:pic>
        <p:nvPicPr>
          <p:cNvPr id="134" name="PE01846_" descr=""/>
          <p:cNvPicPr/>
          <p:nvPr/>
        </p:nvPicPr>
        <p:blipFill>
          <a:blip r:embed="rId1"/>
          <a:stretch/>
        </p:blipFill>
        <p:spPr>
          <a:xfrm>
            <a:off x="4038480" y="1981080"/>
            <a:ext cx="458316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Geographical</a:t>
            </a: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Land formations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Natural resources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Weather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Climate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Plants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Native People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Human influence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Animals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Topography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Location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Agriculture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Industries and Manufacturing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How people have changed the environment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</p:txBody>
      </p:sp>
      <p:pic>
        <p:nvPicPr>
          <p:cNvPr id="138" name="MP00640_" descr=""/>
          <p:cNvPicPr/>
          <p:nvPr/>
        </p:nvPicPr>
        <p:blipFill>
          <a:blip r:embed="rId1"/>
          <a:stretch/>
        </p:blipFill>
        <p:spPr>
          <a:xfrm>
            <a:off x="6705720" y="227160"/>
            <a:ext cx="1676160" cy="1670040"/>
          </a:xfrm>
          <a:prstGeom prst="rect">
            <a:avLst/>
          </a:prstGeom>
          <a:ln w="0">
            <a:noFill/>
          </a:ln>
        </p:spPr>
      </p:pic>
      <p:pic>
        <p:nvPicPr>
          <p:cNvPr id="139" name="MP00640_" descr=""/>
          <p:cNvPicPr/>
          <p:nvPr/>
        </p:nvPicPr>
        <p:blipFill>
          <a:blip r:embed="rId2"/>
          <a:stretch/>
        </p:blipFill>
        <p:spPr>
          <a:xfrm>
            <a:off x="1143000" y="227160"/>
            <a:ext cx="167652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9:42:31Z</dcterms:created>
  <dc:creator>Lib_Lab</dc:creator>
  <dc:description/>
  <dc:language>en-US</dc:language>
  <cp:lastModifiedBy>MILL CREEK ELEMENTARY SCHOOL</cp:lastModifiedBy>
  <dcterms:modified xsi:type="dcterms:W3CDTF">2004-04-23T17:08:29Z</dcterms:modified>
  <cp:revision>8</cp:revision>
  <dc:subject/>
  <dc:title>Subtopics</dc:title>
</cp:coreProperties>
</file>